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E752-8348-4F10-A9AD-D9FF49159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B69D-FE58-4154-BB19-8AEE5B69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5BD6-4558-4A78-BE4F-17E0AA4B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7F7B-A0C1-459B-94B8-EF288296F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C100-DD8E-451A-872C-4C1E6F89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49E5-6DCB-4A7A-9352-034C9EBC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DF19-9978-42CB-A997-B4B47189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C069-1EA1-464B-8876-417D77B9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79CB-1CC1-42E2-9B42-6B70A3B7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E081-96FD-40A9-9FE1-C1F769EB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182C-819A-43A7-93EF-D43EF2BE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337B-728B-4F27-8A95-55848920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D2B4-CE8F-4DDD-B967-7873D7E0B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etacrawler.com/" TargetMode="Externa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guide to the 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lov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457200"/>
            <a:ext cx="2286000" cy="1967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thing you want to do is to limit your search results. Putting quotation marks and + in between words is a good way to get specific 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4191120"/>
            <a:ext cx="1752480" cy="1674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-search eng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meta-search engines, you type what you want into a search box and it will give you several individual search engines and their webp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lib.berkeley.edu/TeachingLib/Guides/Internet/MetaSearch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meta-search eng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etacrawler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mamma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dogpil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257800" y="3124080"/>
            <a:ext cx="2317680" cy="3100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make your searches too vague. So if you are looking for an automobile, don’t just type Toyota. Instead, type 2005 Toyota Tundra if you are looking for that specific vehi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95480" y="327672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vidual search eng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googl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altavisa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yahoo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msn.search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ware of searching on three-letter top-level domains to narrow your search. Do NOT try to search for the URL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d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m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re are too many pages in these domains for the search engine to handle. On the other hand, searching for the UR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o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y be more successful because there are far fewer of these pages. Still, all searches on top-level domains should be used with cau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internettutorials.net/strategies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o not search for vague things, and that “” and + help searches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2346480" cy="2581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mour User</cp:lastModifiedBy>
  <dcterms:modified xsi:type="dcterms:W3CDTF">2007-10-10T16:45:5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